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EC4-44FE-4EFC-BC50-77B471C1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373-0FF1-415D-A98B-84E8D400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EC5-13C8-4AF0-852C-EA85E729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D9A-1EF2-488C-9C6F-ED60E3A3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ACC-A759-4D96-BA96-B80CAD45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B4B-1952-47AA-BEFD-1AFD424D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5F4-5CEC-4895-87B1-06241C2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58D-7E29-43CD-A0FC-8CAA82B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E54-68F9-49DE-9720-D74E6F65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F95-F467-479F-BB8C-9D9D0BB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5BF-5E28-4BB3-BCD5-DEE6C63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617-FC75-46DC-B014-92B67F1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8D45-D266-4680-8CF4-F3FB2ECC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55;&#1072;&#1087;&#1080;&#1088;&#1091;&#1089;_&#1040;&#1093;&#1084;&#1077;&#1089;&#1072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54160" y="3206880"/>
            <a:ext cx="9567720" cy="23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2520" y="5219280"/>
            <a:ext cx="7023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Arial"/>
              </a:rPr>
              <a:t>Группа «Философов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Arial"/>
              </a:rPr>
              <a:t>Учащиеся 9 класс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993600" y="444600"/>
            <a:ext cx="8299800" cy="115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628640" y="1873080"/>
            <a:ext cx="69454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4840" y="339480"/>
            <a:ext cx="903132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Цель исследовательской работы:</a:t>
            </a:r>
            <a:br>
              <a:rPr sz="3600"/>
            </a:br>
            <a:br>
              <a:rPr sz="3600"/>
            </a:b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Выяснить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 как 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появились прогрессии?</a:t>
            </a:r>
            <a:br>
              <a:rPr sz="3100"/>
            </a:br>
            <a:br>
              <a:rPr sz="3100"/>
            </a:b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Гипотеза:</a:t>
            </a:r>
            <a:br>
              <a:rPr sz="3600"/>
            </a:br>
            <a:br>
              <a:rPr sz="3600"/>
            </a:b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Мы считаем, что открытие прогрессий было неизбежно и способствовало развитию математики в целом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666600"/>
                </a:solidFill>
                <a:uFillTx/>
                <a:latin typeface="Arial"/>
              </a:rPr>
              <a:t>Задачи исследования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1. История возникновения прогресс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2. Арифметические прогрессии в древно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3. Геометрические прогрессии в древно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08000"/>
                </a:solidFill>
                <a:latin typeface="Arial"/>
              </a:rPr>
              <a:t>Историческая справка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Термин «</a:t>
            </a:r>
            <a:r>
              <a:rPr b="1" i="1" lang="en-US" sz="3100" spc="-1" strike="noStrike">
                <a:solidFill>
                  <a:srgbClr val="800080"/>
                </a:solidFill>
                <a:latin typeface="Arial"/>
              </a:rPr>
              <a:t>Прогрессия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» от латинского слова «</a:t>
            </a:r>
            <a:r>
              <a:rPr b="0" i="1" lang="en-US" sz="3100" spc="-1" strike="noStrike">
                <a:solidFill>
                  <a:srgbClr val="800080"/>
                </a:solidFill>
                <a:latin typeface="Arial"/>
              </a:rPr>
              <a:t>движение вперед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» введен римским автором </a:t>
            </a:r>
            <a:r>
              <a:rPr b="1" lang="en-US" sz="3100" spc="-1" strike="noStrike">
                <a:solidFill>
                  <a:srgbClr val="800080"/>
                </a:solidFill>
                <a:latin typeface="Arial"/>
              </a:rPr>
              <a:t>Боэцием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(VI в.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 математике: это всякая последовательность чисел, построенная по такому закону, который позволяет неограниченно продолжать эту последовательность в одном направлении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Арифметические прогрессии в дре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стречаются 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во 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II тысячелети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до н.э.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Клинописные таблички вавилоня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Египетские папирус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Древнекитайский трактат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«Математика в девяти книгах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7238880" y="3639960"/>
            <a:ext cx="255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Геометрические прогрессии в дре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стречаются 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во 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II тысячелети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до н.э.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Клинописные таблички вавилоня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Египетские папирус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Древнекитайский трактат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«Математика в девяти книгах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Индийские «сиддханты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5872320" y="4668840"/>
            <a:ext cx="3377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663300"/>
                </a:solidFill>
                <a:latin typeface="Arial"/>
              </a:rPr>
              <a:t>Выводы</a:t>
            </a:r>
            <a:r>
              <a:rPr b="0" lang="en-US" sz="4900" spc="-1" strike="noStrike">
                <a:solidFill>
                  <a:srgbClr val="9999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Понятие «прогрессия» имеют важную роль в математике. Рассмотренная в ходе исследования история возникновения, дает нам понять, что прогрессии использовались в Древней Египте, Вавилоне и других странах и способствовала развитию математики.</a:t>
            </a:r>
            <a:r>
              <a:rPr b="0" lang="en-US" sz="3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Макарычев Ю.Н. и др. Алгебра. Учебник для 9 класса. – М.: Просвещение, 200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Перельман Я.И. Занимательная алгебра. – Д.: ВАП,199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Перельман Я.И. Живая математика. – Д.: ВАП,199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ru.wikipedia.org/wiki/Папирус_Ахмес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http://ru.wikipedia.org/wiki/Математика_в_древнем_Кита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ma</cp:lastModifiedBy>
  <dcterms:modified xsi:type="dcterms:W3CDTF">2011-06-06T18:29:17Z</dcterms:modified>
  <cp:revision>2</cp:revision>
  <dc:subject/>
  <dc:title>PowerPoint Presentation</dc:title>
</cp:coreProperties>
</file>